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C4B-45CC-45C0-B8E6-CF015D85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F56-1A95-488D-B1A3-D2B50EE7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97A16-4CA2-402D-85BC-59B58CD7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6297A-D916-4FC1-BEC5-240647AC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95869-328E-4DBF-B67C-3D6D39CD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D0E1C-B7E2-43C5-9D23-76DB1B7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D4635-1933-4DE3-B625-D983F689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68051-873F-4FC7-A4A4-F4FAF6A8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32FF7-9D81-4737-A05C-7FA77957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57F2D-8255-45F4-B9BB-68565745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19CA7-BEE3-49D0-8C84-1E75C96C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7DD12-BF1F-4C89-918A-1E5193B0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688-A74D-4952-A1EC-C926F7B0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6871E-92AC-4B9A-A6DD-D8E614A3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BADCE-49CD-410A-9555-CD593EB4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EE169-02A0-467C-87BE-C434A0E9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56D72-94FC-4C09-941F-DAA43BA2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9A505-94D5-4B9C-BC2C-C4462280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90223-EFA9-4FD0-8BC2-823AD995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A8E71-4B5F-4209-9A73-64E39C53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D8ED3-D516-4A24-B99C-4502BED4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892B7-6D7A-4D28-BB8D-14C03F7A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84583-EB94-4E03-85A4-B96E0224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D1C-E4B9-478A-BAC6-9355D8EA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033B2-24C8-4503-9C5B-C409680D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E7B90-F1CC-4196-965E-47FDA254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A4CC5-810D-4BCC-B1B7-BC381DEA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99511-0FF9-4064-B162-0BC2EED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75BAE-8BE4-49A4-B343-5E591A2E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F53C0-7438-442E-B212-6D1602B0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CFA91-6269-4FFC-AFC3-ADFD66CE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4BCE3-A38D-4937-8823-5E799D1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AE8C1-D90A-4F83-B3CB-F1B5EA6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2D1F1-2547-4F7A-B6D6-29216AD5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A57C-21E2-48C5-B3C6-3A414660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6B6ED-F723-4F24-B5A4-1E928CA6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560DA-EFA7-4504-B8D2-8239BC51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171B3-9A8B-4DD1-8F40-DEC9E851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6EAFB-A3F6-4EE8-A169-9C302FBA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B2369-94AE-49DC-A4A8-B1DD3714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826D6-ABA6-407C-A205-47C24237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CB774-E0F2-4237-BC01-04C8C7B5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8176F-54AA-4A00-9CBF-C0790ED2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5BABE-6190-49BB-82A8-60EC55AA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28967-92F8-4259-92E0-32C8D802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49BA-6656-42FA-901E-531E4D1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ECCF5-8330-4DD3-B735-2D6A45FD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B5005-9F53-497D-B8C6-8E304B0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A3FCD-C27F-4644-A138-2B546274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188F4-B739-4A7D-811A-6E570726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479D8-BEB4-4995-B199-80D3749C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EE8D0-3985-4236-B94C-CCEF8311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594FE-0A25-43E8-8CCC-BF3A4D58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F7B10-1F0D-457A-950E-D40D4974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55841-4FD8-45EE-BDB0-10D498AD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C70F2-876C-4532-8FEC-A0E479EC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B214-1091-4228-B67F-346850B1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16F69-5564-42FF-AC80-6AC2F98F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6A1CD-A4D2-4597-BD80-96397DDC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59514-FAD8-4C3A-B7C3-053E8B6B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D7986-F4F8-4DE2-93E0-52EBBB96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8AB52-6495-4F5A-9CCB-C2EB035B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58EC6-CE46-4D3E-9F1F-096286EF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27358-9321-40FF-9FF3-CA24BD7D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F6C60-7B20-4E41-B7BB-BAEAD750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7FB84-6B6B-4763-8CEA-9E6EBEE6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6BD8E-E270-44F3-88CD-2E05C465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6C20-5AA9-448C-AD97-5EAAF59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DC09D-14BB-4C66-9C9E-2417EEB4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4CF0E-E243-439E-BA2F-5FAFBB6B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AFF93-E996-4A98-BDE3-FDE9169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72AEC-5218-43E2-915F-2F246CCE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9528D-ADB6-401C-B29E-2664B6F6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07776-B542-4D9C-8B8B-101747F1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FFF3F-9B6A-43CB-A8F8-0BA563D4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64C1C-D370-421D-AD3F-7428FA3C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7A085-3F00-4240-B997-A5B6A27B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37493-18A9-43CD-BA94-980E8D93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1373-98C4-43DD-8807-F966E452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CCE1F-B4A3-42F2-9459-ADCA7A42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176BD-CF17-423D-9331-90BB51B0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EC7D8-9930-4691-A303-E0A429C9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D2EB3-19B2-4549-B089-7725046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B2E66-B1C8-44FB-8ACC-5A3F104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F65B9-E253-4502-8798-9B35947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7A0FF-6BAB-45AD-8EA8-2B578667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41620-7CF3-4A20-BC77-97FE0C64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7F413-E905-4302-AE5C-67FFC092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C7C4A-1EAA-4703-9B48-C497EE86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48C5-6A30-4875-8455-0F93C10E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7FFED-B5F4-4D1F-8CD0-F78FD738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E552A-F07A-4797-A88E-CCBDD8DF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9BCD1-CC0B-4EBD-A4DB-01D0079B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2D7D0-4A61-494A-B80F-8FAD02E4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90BBC-113E-4268-9BD8-D5F0B176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5D807-4022-4AF6-B332-A8102D0C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547E2-1B57-4B1E-B9DC-1746BE67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88F50-33FF-4985-844E-5D62E812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89FA6-BFE1-477C-9EF0-7E27CDD2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3AAEA-8EE8-4BDF-85B5-4D8FF96F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F337-121A-4A5F-9F14-1D5D0117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9CB35-B400-4F86-A6EA-D0684953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6F57D-29FC-470E-B91A-A554AE2C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69434F-C474-4CDF-95DB-6AE37E65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5FFB2-C916-47E6-ACB3-147FFFE7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C013B2-3DEF-4C2F-ADF8-7DEB5C5A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4E05C-F854-408B-B5FB-CFEB6EDE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06516-98BE-4992-B7CE-0E1CF219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14E29-8B4D-4E61-921B-3DA28506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B0605-DC45-4888-86FE-F5C58D5F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A0FCE-E26D-414A-89BC-46D5FB1E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E62-25A0-4DA4-B3EF-2017FCE3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6DEC-6755-4D2C-8F13-DB5E394E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99E03-DB92-48DF-9DED-B535A41A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8FFB5-C43F-4CED-B715-0A4D460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18CBE-C677-4AB1-9EA6-9C4D2772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6DD004-80AF-4931-BE85-F62F6B93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05343-FF4D-4CEC-9D79-EE0A42C1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EBA15-297E-4A1A-8E6E-27F6075D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34BB4-B7FC-4B76-B97C-5EA6890D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815B8-1B68-4E1D-9E5F-3E55440C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7311B9-2EC3-4831-BD39-9E0EF384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899A6-84E1-4A14-8BD1-52511CBB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B239-9005-4A74-BAE0-142EC2D5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45491-B7D1-4544-8A98-BC52F4A3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146384-116C-45F9-879F-43DD4F2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CBE5C4-9530-48CF-8954-AF4BB6B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EF7228-0D05-4EC4-8A50-D5A0EED0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5E4C9-58E5-439F-9DA0-B14B07A1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7BD30-77B6-45C1-A32D-57A1A6EE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90316-21B8-4BC4-BCA2-1B38ED77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8901D1-0271-4B18-966F-D645EA93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EADDF4-02CC-41D3-9917-C666FE14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024416-7714-48F3-B9D2-49505058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034C-C08E-4741-BCD5-D261751D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714AE1-5119-400C-8DFE-673F087F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DDDC1-77D6-4DF3-AA94-359D9B2B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B686D-8976-4A2A-BB67-62502493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06191-8888-4152-B3BF-4B7CF2D6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FDB8A-7962-4A5A-9EBD-54D59CCB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0FCD0-E8CE-41BF-A39F-39B06090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23E12A-BE17-4786-B82C-C3ECFF5A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72E8B-4428-480A-9FCF-3871F38A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72C0BF-4761-4A79-8A36-ACB5BD62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06924-AF84-457F-8CC0-8E464848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7910-C731-4166-B733-D0ED7EC4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560CE-B414-4E49-90B0-F53B5090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36767-1D17-41BF-9845-F9C5D610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8BDD2-530F-4430-898B-3F102B5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3A1770-1EAF-4CFE-A480-FDB38A0E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4D678-81F0-46B1-8EA0-9C89790F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BFD228-5883-4143-B805-35F9380F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61256E-0FF5-43BF-992D-DA47693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4E1006-66A8-4D4A-88F4-C15B18A9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6749A-4D76-43E8-A039-3D8B2116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C3FD5F-1718-4493-B463-50D06880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7EC0-1051-4553-852C-FE75BD24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3FDE5-C747-4D37-9799-0269EE50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46FC2-BF56-4A66-9BE2-8C2AFC5D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84C42-ED13-4813-B289-D3321924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C7FA79-3404-48F2-A14D-7DE64F26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BB6E6A-FF4B-498E-AFE5-43BBA783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618E41-01C4-4313-A018-2B5E05A4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2F3D89-DB19-47FB-BB82-7D0AA709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09B24-798A-4DBC-B1F9-BEFCFCA9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ED64D0-30F7-4456-A13C-AA002962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1ABBC0-25EC-48DC-9893-B90DA9FE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C8EB-B90D-4BBB-8898-8F0F2EBF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05963-D624-497A-AC7E-E6A4304F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BE6780-F55B-4046-BE3D-54ADEC64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98AEA0-889E-4336-9524-8D9887F4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623B-AFBD-4E7C-A43E-D7FC4716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44A0-9A59-45BB-A2B9-ADC43FF7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5132-19B6-4146-8509-35A80B09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3C23-2649-48E2-A1B4-3BF16B4E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DC5-BF7D-4683-8703-938B0DDE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D91C-081F-4793-B95B-E971EB1D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5323-AF82-4BD8-B0CD-4BB4BE10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27FD-08DE-4A25-B9FA-EDEC25A4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5E67-E620-4FAD-BBDA-BFD26472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62A44-CA40-469C-9AC8-234B3569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907F3-2BFA-4D17-A8D5-16000994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0891-5276-49AC-8BD0-23BE4901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8BB5-547D-4C3B-91D1-5AAD9EBE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6908-0468-46EB-8706-462CBBF8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A4E2C-A750-4A7B-8C36-62D9E68E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B40-8798-4318-B410-AB2037D6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5D250-8D76-4DDF-A77B-71F9BE61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E897-179A-4621-B42B-E3A2F851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ECB8F-1FFE-4D0E-BCED-4A38B577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A4BD9-BE08-42C4-A83C-4901FF1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7197-76BB-452F-B9D0-3AD96AAB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DDCA-1F43-46F9-A1D6-85BF44BD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2FE1E-742F-431F-9B93-9DA50624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1DE9-1EC3-4EA5-A532-A4F3ACE2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A633-5B60-4E58-91D9-EF603156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9FF7-8C77-4DD0-A088-74FDF778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C07-2474-4C36-BC6F-3199447C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65DA7-1FC1-4827-9AF5-B4AD9D8B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68389-7190-4770-B058-6B242F5D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8A67-FCDC-460A-9780-9D8E14BE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5269-5495-48D2-948A-2612123E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36396-13CA-4625-9EEA-E26BCC1C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60E2-966E-4279-8D93-B9C06C7A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279D-7D90-4D54-B10F-8EFF0F9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BA3C-D076-4ABA-9E54-43BE2C28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321D-83D6-4D3E-B4EE-CA69D50F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E0F4-C905-4D44-BA6D-3E7AA9C5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D40-5CB5-48CF-82A7-DAC197CB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5148C-91E2-4036-B4DC-C3F1CBEF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F766-80DA-4C60-BE00-D39323C1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05A53-35F0-41BB-A933-7FABB32D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AD706-46A7-4DA9-B8C9-84027F95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804CA-DC21-4877-87C2-0B3054D4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51B04-CDED-49CE-ADB2-750FE802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54732-295B-4CD6-8DB2-39C1EC48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7D24F-AC1A-48B5-A10F-8A14A08E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FD605-851F-4863-A6CA-4ACE5875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1C4A-3A66-4EC6-B724-7DD5A6AF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05F-4BDF-44CB-AB74-9498E1B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21D34-78E1-48F7-AFBF-019406E2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B0B25-B21D-4147-A39B-9F6858FD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F0892-35AF-4B07-94D7-C191B051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C13F4-27F3-4472-B585-49A2FF04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8CE21-510B-4048-98F9-2CED8CC9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39279-C578-425E-954B-BC3C76E5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EF78-C5AC-435B-86CC-30D80FD6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FDCFA-3B1E-48F7-A68D-816BDF9C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93961-12A0-44C2-82AB-1C5B0782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6F004-EADC-43E6-ABD8-6AD5297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84B-1E30-4F0D-9995-FF955578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AB65F-85DB-4D5D-A794-207718AE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916B-69ED-46BE-8E22-126F021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6FD4E-127A-4132-9221-58D58896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45C0C-0FCB-4A63-A469-6DE9C6CA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08C3-0161-4676-A49E-F3E173F3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DE8D4-41B1-4A17-904F-14F81902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45832-600B-48FC-8B7D-2E514278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3BAD1-D867-402D-B8F0-2C6D6ABC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EB67-50F6-48E9-B12A-9D8E42AE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A30D8-114E-44AB-A17B-6308594C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D1B-F43C-48DF-87DD-75EB00B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570FB-77B3-43B7-B755-5CB2EC0D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46930-0F15-4F5C-A967-0B49059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A6505-F8EF-4ACC-BA2B-DA8E7B2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543EE-3927-4287-A837-09C0D7F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9530D-318B-47D2-8979-DDFD6E58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38BE3-D706-4364-A4D8-0C8F02CE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A8B55-FA5F-4306-85E5-C1AD936C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BCCFB-9A0A-4ED2-A3ED-10AA9EB2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77E15-357C-48F6-B6D3-270F92AB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73874-8443-4856-9907-349A6981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7172-250B-4504-B982-198BD607B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6A55-0DEC-46D8-B2DE-190B4478AC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8F82-FE0F-4FF3-A8E1-A5ADEE1390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9329-CE91-460C-8A8F-2CE6F6D13A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63A3-86F8-42D3-82FA-615C50F3C9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1BBA-D562-4114-8437-A227DCD266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EFC1-2595-4DAD-9721-3F3B603CC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20BD-6D74-49BB-883A-1C3F97F5B2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39E7-590A-4076-9EDC-0EEA7818F1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C00-6C34-4A69-8F29-F11B7CAAA5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2519-AF84-4B26-97DB-5BDAE8E13B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ADC3-EF04-4EC6-915B-03CC375E21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0E70-E805-499D-B9C4-B7EF2DA7A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7BF9-9E92-413C-B31D-852CA3F59B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2A49-BE53-43C3-AED7-763518FE5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069B-D501-4B85-8759-253A268A3A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7E2D-7B05-47E1-B5F9-A17CDCED3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BF8E-5AA6-48FC-A43E-B76AF09178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C83B-2105-4D47-9978-4C6B621F0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CB26-4AA6-41A3-B973-C84A5C1957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E9B2-348E-4F35-8E26-FB92D41327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7FC9-D231-4E93-8177-EA9E47B5F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8331-3BD1-4E0B-99E0-97CBC0F73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9BB5-D9B3-49DE-A3D3-FDD6C8AC3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7E83-40AE-4F71-BD98-BB9D63B1F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5E74-9150-4764-9A33-B1A595D71A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D30-54A5-4AD4-AA5A-AEAB31A53E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1B82-E17C-40A7-8C60-EE262EC37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8BD-E072-4065-8A20-66D04E3CE9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0AB9-46F7-4988-897A-938195F733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5155-A47F-4618-B7CB-D398D4356B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345A-9706-44A3-B16C-6731338345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B3D9-4564-4108-84E1-CCF89278EE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C805-E166-4B84-A2D9-8750C239E1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0C56-ED73-4A6E-B9A4-D5262286F2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CB7E-1B13-454C-9C5D-34E892328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9C14-B9F0-41AB-8105-D522F13E02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EDB8-FB73-48BF-AE4F-BFF584CA94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21E7-CC44-495F-9249-650EC1D4D8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3695-8475-4E36-87B2-2F50E67256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2920" y="2881440"/>
            <a:ext cx="88581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42840" y="581040"/>
            <a:ext cx="9056880" cy="62085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213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16000" y="4581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504720" y="1981080"/>
            <a:ext cx="8134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9080" y="730080"/>
            <a:ext cx="9105840" cy="363708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" descr=""/>
          <p:cNvPicPr/>
          <p:nvPr/>
        </p:nvPicPr>
        <p:blipFill>
          <a:blip r:embed="rId2"/>
          <a:stretch/>
        </p:blipFill>
        <p:spPr>
          <a:xfrm>
            <a:off x="727200" y="4289400"/>
            <a:ext cx="8275680" cy="25812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258920" y="30114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258920" y="378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258920" y="234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1258920" y="57340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7"/>
          <a:stretch/>
        </p:blipFill>
        <p:spPr>
          <a:xfrm>
            <a:off x="1187280" y="4292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6" name="组合 7171"/>
          <p:cNvGrpSpPr/>
          <p:nvPr/>
        </p:nvGrpSpPr>
        <p:grpSpPr>
          <a:xfrm>
            <a:off x="114480" y="1285920"/>
            <a:ext cx="8915400" cy="4286160"/>
            <a:chOff x="114480" y="1285920"/>
            <a:chExt cx="8915400" cy="4286160"/>
          </a:xfrm>
        </p:grpSpPr>
        <p:pic>
          <p:nvPicPr>
            <p:cNvPr id="1047" name="图片 1" descr=""/>
            <p:cNvPicPr/>
            <p:nvPr/>
          </p:nvPicPr>
          <p:blipFill>
            <a:blip r:embed="rId1"/>
            <a:stretch/>
          </p:blipFill>
          <p:spPr>
            <a:xfrm>
              <a:off x="114480" y="1285920"/>
              <a:ext cx="891540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1" descr=""/>
            <p:cNvPicPr/>
            <p:nvPr/>
          </p:nvPicPr>
          <p:blipFill>
            <a:blip r:embed="rId2"/>
            <a:stretch/>
          </p:blipFill>
          <p:spPr>
            <a:xfrm>
              <a:off x="1258920" y="3559320"/>
              <a:ext cx="7200720" cy="10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9" name="直接连接符 7172"/>
          <p:cNvSpPr/>
          <p:nvPr/>
        </p:nvSpPr>
        <p:spPr>
          <a:xfrm>
            <a:off x="1476360" y="3573360"/>
            <a:ext cx="71280" cy="1079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7173"/>
          <p:cNvSpPr/>
          <p:nvPr/>
        </p:nvSpPr>
        <p:spPr>
          <a:xfrm>
            <a:off x="3276720" y="3573360"/>
            <a:ext cx="4608360" cy="1150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7174"/>
          <p:cNvSpPr/>
          <p:nvPr/>
        </p:nvSpPr>
        <p:spPr>
          <a:xfrm>
            <a:off x="4716360" y="3573360"/>
            <a:ext cx="1656000" cy="1079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7175"/>
          <p:cNvSpPr/>
          <p:nvPr/>
        </p:nvSpPr>
        <p:spPr>
          <a:xfrm flipH="1">
            <a:off x="5003640" y="3573360"/>
            <a:ext cx="1368720" cy="1079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7176"/>
          <p:cNvSpPr/>
          <p:nvPr/>
        </p:nvSpPr>
        <p:spPr>
          <a:xfrm flipH="1">
            <a:off x="3203280" y="3500280"/>
            <a:ext cx="4537080" cy="1152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-3240" y="1171440"/>
            <a:ext cx="9151920" cy="4515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471600" y="1047600"/>
            <a:ext cx="8199360" cy="47628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43200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900000" y="2852640"/>
            <a:ext cx="432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1400040" y="2495520"/>
            <a:ext cx="6343920" cy="18669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4:5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